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7B5-B2B6-41BB-8976-9255AC20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B4E-93B2-4E12-B329-E11BD136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5F4-61C8-4628-844B-79D837E2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EA9-535B-496C-A2FE-E38F0AE2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658-A883-4A5F-9F7B-F96C417E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23D-0C33-417A-BD26-5D2E7798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4CA-2417-46AD-846B-7012AB34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9BD-6C65-42FB-8401-703B0467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225-E81B-4777-9064-9785E31B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953-87AB-4690-B2E8-062EE146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21F-1BDE-4908-99BA-7C1949D9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5A5-E827-4C5C-B0FF-262A3D95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CAA2-CD25-4A09-939E-3646BD31B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Luke’s Ice Crea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uke’s sweet ice cream will be your favorite dream as if it was a stream flowing with milk and hone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93960" y="762120"/>
            <a:ext cx="476244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